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2EB-B3BC-47AE-BC67-E33B81FE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84A-20D5-4D36-BBA4-09BC6CF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098BB-957B-47BC-ACF7-1B352830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819AD-0A17-4826-9281-97E4313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56F39-43D6-41FB-96DE-9E7523B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9670-7D77-44EC-8059-7A27D8E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E66DB-04AD-4F55-B38E-FABA469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83C34-CF1C-45A9-8D34-3755A88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7809-E53E-4964-8E8A-3D2F749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65A61-DE4E-45AD-A0DE-307F3D09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422CA-7A49-48D7-B1FB-75459B7D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99E90-3D91-4263-AAB9-008C4DBF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F87-F2BB-41D4-A458-5B484EFF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6973C-8809-4EF2-BDF5-2AC3C250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9CCD-6A2A-4DB5-9B5E-738A8FE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D8D8E-C40C-4E00-987B-B6BD473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DFF75-82FF-4F22-B7FC-6B750D4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BCAE6-E02B-4E65-B923-F2878B2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BC62-9372-444F-8934-E6E1E07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D4352-6698-4EBB-BED1-0D54CD0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CC1D-64FE-4AE3-AFA7-93BCE08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BC1C-768F-4096-A223-A8BCEC3C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7C88D-1A16-4402-B626-220168C5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6BE-8748-4639-9043-83158AC9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394CC-56F6-4725-B104-A88D32F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40B9-844B-45C7-B37C-C7CD0DF8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05FD-9AC5-4C4B-AADC-8E47B4E0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341A-7045-4905-BB6F-C5D916D6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BE5A-8077-4347-9A3A-48E9E76A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E4F2-1D5A-407F-9C4E-3D9746B0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ECCF5-D67F-41D4-9A60-9F6E1BD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F232-1132-4914-8764-D418026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DD6E-DB71-4C73-BE0E-C4C0226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C7B1-4077-4FE4-9677-D264C33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D5E1-DE95-4B35-953E-4FD8ED4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8D437-BFF1-4A9C-A1BC-8B20F49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F6F4D-9909-466C-8F27-148BC51F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FEEFA-DB17-46E8-A7BA-3B659EB2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0BF4D-E8AD-4B0E-950F-165E526B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0C1F5-E2BD-402D-9106-EBF59A3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5E397-50C7-47CF-9B45-6AD4AA4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2C493-3762-40DF-AC52-8103029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1B448-66AF-4ADD-B3CA-1E509EE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02712-82D5-48A1-B8BF-4DDE991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0DE50-3F7D-4AC2-8F23-27F3685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468-2164-4D47-B0C8-AAD627B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E828C-21C6-4C9F-9F95-CED22C5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4BF83-5C3A-4340-B43C-DFDCF0C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19DB-97D5-4F77-BB6B-79958CA3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B3502-F9A2-419E-9361-02F81F9C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71BDF-ABED-4D43-892F-956A358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A37-DA4B-4C0D-8E13-6EF2F813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E981-317D-4293-9799-6595CE1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80D-DA28-47E0-BF53-CB2F3C5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7DFD-A0F6-45D9-B13E-92AD11D6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C019-9C05-4EC1-B807-9D62A46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BBB-A381-4A09-93E4-E857887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AD47-1D09-4666-B980-C90BE11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45D6-EF43-4E0C-BEB5-768F27C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B843-51A7-4BBD-97B5-3527F56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BE98-063E-404C-AB3F-AA387F0E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9D21-1DE5-460D-804B-8E9BA141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74C1-114A-454D-BD16-BC25B846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C479-F56C-4791-B51F-F019C4C9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D20B-13BC-4E79-BC78-CC1DACB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BFF0-EC46-48A3-9971-2F87333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5742-5103-4414-94A5-C9F9D3E6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0C8-EF31-4915-A16D-ED38CF42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7DA3-BFC8-4B49-9D7C-DF56D15F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C9B9-3A50-4451-8D95-4A37CC8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D70E-0971-4525-A0C2-02D09C42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7A78-7712-4B22-B4F0-DB491D4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8218-31BF-4CE2-8F4C-CF24CEA7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6F65-F3FA-4042-9657-0F9115FD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B69C-1AB3-4D52-B17E-8D7197BD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C5D3-8735-4B38-AC19-BB91E0F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7D14-517A-49BE-9EA4-2166C2AA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0E00-EE0A-47FE-AA80-E06F1DAD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D68-9B02-472F-8F46-001A52F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D9CD-AFCA-451B-ABDE-8773A7B3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D2B4-8E34-41FB-82DE-87AC0DF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D26E-8DD9-49B4-8773-A16FE88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448EA-A1C4-4200-B156-D7138EC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F486-EA29-4669-9645-728C8AF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F575-BCCC-4F47-A512-569F4ED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69B0-12A7-4D41-9F9A-A8F3DAC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9500-E580-42E2-9138-7246C88A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A11F-C696-4CF9-8230-AFC33AED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04D9A-AA64-4C37-BBFC-1A3509F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6A2-31E2-4B82-8A4B-C1CC4B4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29249-8133-43C3-8A02-B9C7873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2345-1808-451D-974B-542AE95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3437-F186-45F9-A072-E559CD18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D683-AB0E-4D52-9B29-E1290E89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E213-7AD1-44EA-959B-9450C3EF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4F38-648A-4736-A512-E9E247C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A258-9E96-4043-A725-BCEF161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81940-20FD-419B-9163-B08F71E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4553-507F-4EA8-BCEA-34E7E649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18DE-B61B-435A-B00D-FE34784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52E-5B6F-489A-BE00-A0A37964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62BC-C81F-40DA-A7E7-BA1A6ACD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B371-8A19-4B6F-AF7D-7E3841CE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0B1B-9F5E-4310-B880-ED89FB41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D7F4-8512-438E-B7C0-5D1F2B8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CFA09-0A23-4B86-A185-884E5CD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9326-30CA-4A53-8C75-E3BD74B7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A211-7D5C-4A09-9E6B-FBE09B36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B51D-D6E8-4EF0-810C-B83A8723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23E2-C0AB-4348-82B8-CA3E06C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1E93-F562-416B-AA61-1A08651B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E77-6622-4821-A4BD-19927BA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B436-CA56-4226-9BBF-B2EFC899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FF6AE-A84D-4552-9188-87DF1AF7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EAF0-05F3-49E7-8098-C929DA00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2270-10E7-47AF-AB08-CF4C0B74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8D00-E99F-4D6D-B0E6-4D8CB9A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A98BF-A814-4F75-ACA6-5E2FD35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8BF6-24D9-4E69-869B-10C11639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7E9D-2C8D-486A-9CBC-E0698527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CA75-E24D-4256-A740-E70EC0E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2A45B-395D-414B-97F2-76C01AB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71B-32A9-4EE7-B1EF-9A7B31F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BE0FB-F416-4AED-AC5B-ADD3FC0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CF68-41C5-451C-B11A-C1811C7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EE34-283F-48E4-AB23-0491BFB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5E93-14CF-4854-9A1C-A6D5E9F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3821-7BE5-419A-B2DF-3C63BDE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520C-774F-4EA9-BF2C-24E90E20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AA564-6099-4E9F-98A3-4A49E89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0CD6-DCB6-4F45-8ADD-310D9859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3BB8-3ABB-4D8B-93BB-648CC43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BE78-F2A9-4C91-9514-BAB70C7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3C4-0D10-406B-B4A3-DCA87199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445D0-4AFA-4BD4-8A63-8A028D6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2ED7-2F02-4897-BF46-4934136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48C49-78AB-490D-A6A8-498D9CA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C84D-B405-4CF0-8396-5938E05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4C34-9815-4ABC-9D63-9EA752A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D786-3BD3-4C16-BC6F-B0DB76D9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AF88-3ECA-4C2A-8316-8E98FCE3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9259-9A92-495F-8C54-41AD26D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39600-E5F2-4BE0-B4E0-2B12E70F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175A1-E00D-4F84-A37B-4638996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A18-A24C-4612-A1EF-77F5D3885D0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5C8-C8DF-4CDC-954D-525C44D68A9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C83-74DF-48F6-8769-D9850B47EA9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C685-F533-46C0-85AC-C48A19BC503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C8A-C79F-41AD-BC32-36BE4BD9953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048-742E-4DB5-8F44-98E2E0B919A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453-BB5D-4718-8812-3C7690018B4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169F-6422-4646-8AF6-298DB46CE44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32D-F977-47F1-BD46-830ECA767E2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C537-B8EB-45BD-A134-AB73476B03F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022E-A973-4D58-A1EB-6A9C683B5A6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CA89-0183-4F51-B91B-1A707D3636B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5" descr="3161555-grande-immagine-di-un-suono-elettronico-sine-o-audio-onda.jpg"/>
          <p:cNvPicPr/>
          <p:nvPr/>
        </p:nvPicPr>
        <p:blipFill>
          <a:blip r:embed="rId1"/>
          <a:stretch/>
        </p:blipFill>
        <p:spPr>
          <a:xfrm>
            <a:off x="4067280" y="4581360"/>
            <a:ext cx="507672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6656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suono è una perturbazione longitudinale prodotta da un corpo che vibra con una certa frequ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corde vocali di una persona, le corde di una chitarra sono esempi di sorgenti sono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Rettangolo 4" descr=""/>
          <p:cNvPicPr/>
          <p:nvPr/>
        </p:nvPicPr>
        <p:blipFill>
          <a:blip r:embed="rId2"/>
          <a:stretch/>
        </p:blipFill>
        <p:spPr>
          <a:xfrm>
            <a:off x="1109520" y="158760"/>
            <a:ext cx="6742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magine 3" descr="eco.jpg"/>
          <p:cNvPicPr/>
          <p:nvPr/>
        </p:nvPicPr>
        <p:blipFill>
          <a:blip r:embed="rId1"/>
          <a:stretch/>
        </p:blipFill>
        <p:spPr>
          <a:xfrm>
            <a:off x="230040" y="333360"/>
            <a:ext cx="8663040" cy="6191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ec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l’esempio più noto di riflessione di onde sonore.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’esempio più noto di riflessione di onde sono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Poiché la velocità del suono è costante,il tempo che impiega per andare e tornare dalla parete riflettente si calcola con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it-IT" sz="4000" spc="-1" strike="noStrike">
                <a:solidFill>
                  <a:srgbClr val="953735"/>
                </a:solidFill>
                <a:latin typeface="Comic Sans MS"/>
              </a:rPr>
              <a:t>t=2d/v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ove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d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è la distanza della paret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onde sonore possono essere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ess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attraverso un mezzo:per esempio in un appartamento il suono è trasmesso attraverso le pareti,i pavimenti,le por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Immagine 4" descr="trasmissione.jpg"/>
          <p:cNvPicPr/>
          <p:nvPr/>
        </p:nvPicPr>
        <p:blipFill>
          <a:blip r:embed="rId2"/>
          <a:stretch/>
        </p:blipFill>
        <p:spPr>
          <a:xfrm>
            <a:off x="4356000" y="3635280"/>
            <a:ext cx="36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l suono arriva su un materiale che non possiede le caratteristiche di elasticità necessarie,non riesce a propagarsi e in questo caso prevale l’ assorbim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ateriali che si comportano in questo modo vengono detti “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Fonoassorbent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”(la moquette,la lana di vetro,il sughero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2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L’intensità di un suono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il rapporto tra la potenza acustica e l’aria della superficie stess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I=P/A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’unità di misura dell’intensità sonora è W/m al second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0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si distinguono per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distingue i suoni bassi o gravi,da quelli alti o acuti. Essa dipende dalla frequenza dell’onda,cioè dalla frequenza di vibrazioni dalla sorgente: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 suoni grav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a basse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suoni acut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e alte,maggiore è la frequenza dell’onda più acuto è il suono che si percepis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 distingue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 suoni forti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da quelli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deboli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;essa è legata alla quantità di energia che giunge sull’orecchio e quindi all’ampiezza delle vibrazioni a cui sono soggetti gli strati d’aria in cui si propaga il suon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,invece,è una caratteristica del suono legata alla forma dell’ ond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ue suoni possono avere la stessa intensità e la stessa altezza,ma timbro diverso:una tromba ha un timbro diverso da un violino,anche se stanno suonando la stessa not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e caratteristiche uditive variano da un individuo a una altro e cambiano anche con l’età. In generale i suoni di frequenza minore di 20Hz o superiori a 18Hz non sono percepiti dall’orecchio uman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che hanno frequenza inferiore a 20Hz sono dett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f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quelli che hanno frequenza superiore alla massima udibile sono gl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Ult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Quando una sorgente sonora e un osservatore si muovono l’uno rispetto all’altro,si verifica l’effetto Doppler:la frequenza che l’osservatore percepisce è diversa da quella che la sorgente emett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questo effetto si distinguono due cas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a sorgente si muove rispetto all’osservatore ferm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’osservatore si muove rispetto alla sorgente ferm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       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Una </a:t>
            </a:r>
            <a:r>
              <a:rPr b="1" lang="it-IT" sz="3200" spc="-1" strike="noStrike">
                <a:solidFill>
                  <a:srgbClr val="376092"/>
                </a:solidFill>
                <a:latin typeface="Comic Sans MS"/>
              </a:rPr>
              <a:t>sorgente sonora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un sistema in vibrazione. Le vibrazioni sono delle oscillazioni di ampiezza molto piccola, sono trasmesse all’aria e si propagano fino al nostro orecchio. La maggior parte dei mezzi materiali trasmette i suoni; nel vuoto invece il suono non si propaga e in alcuni mezzi materiali,gli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isolanti acustic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, il suono si propaga con difficoltà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Immagine 3" descr="isolante acustico.jpg"/>
          <p:cNvPicPr/>
          <p:nvPr/>
        </p:nvPicPr>
        <p:blipFill>
          <a:blip r:embed="rId1"/>
          <a:stretch/>
        </p:blipFill>
        <p:spPr>
          <a:xfrm>
            <a:off x="4716360" y="4437000"/>
            <a:ext cx="442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magine 3" descr="effetto doppler.jpg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Nel primo caso,supponiamo che la sorgente sonora si muova in linea retta,a velocità costante,avvicinandosi verso l’osservat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e onde sonore emesse dalla sirena non sono concentriche,ma sono “schiacciate” nel senso del moviment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Viceversa,quando la sorgente si allontana,l’osservatore riceve una lunghezza d’onda maggiore e una frequenza min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Nel secondo caso possiamo dire che l’effetto si verifica anche quando la sorgente del suono rimane ferma e l’osservatore si allontana o si avvicin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egli si avvicina alla sorgente,la frequenza è maggiore della frequenza de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invece l’osservatore si allontana dalla sorgente la frequenza è minore di quella emessa da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olo 1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All’energia emessa da una sorgente sonora si da il nome di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acustica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( o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sonor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Una caratteristica distintiva della sorgente che produce il suono è la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potenza acustic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 cioè l’energia che essa emette nel temp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P=E/delta 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P=potenza acustica(w);E=energia(J);delta t=intervallo di tempo(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olo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339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Le principali caratteristiche di un onda sonora sono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FREQUEN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il numero d volte che il corpo oscilla in un secondo, e quindi anche il numero di onde generate in un secondo. Viene misurata in Hertz (Hz) e viene indicata con la lettera “F”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VELOCITA</a:t>
            </a:r>
            <a:r>
              <a:rPr b="0" lang="it-IT" sz="2700" spc="-1" strike="noStrike">
                <a:solidFill>
                  <a:srgbClr val="95b3d7"/>
                </a:solidFill>
                <a:latin typeface="Comic Sans MS"/>
              </a:rPr>
              <a:t>’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dipende dal materiale in cui si diffonde le onde e dalla temperatura. Viene misurata in metri al secondo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LUNGHEZZA D’OND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a distanza fra due creste successive, di solito misurata in metri o suoi sottomultipli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IL PERIODO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cioè il tempo che intercorre tra due vibrazioni successive ed è l’inverso della frequenza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’AMPIEZ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’unica grandezza slegata dal tempo e indica il massimo spostamento dall’asse orizzontal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Immagine 3" descr="il_suono.jpg"/>
          <p:cNvPicPr/>
          <p:nvPr/>
        </p:nvPicPr>
        <p:blipFill>
          <a:blip r:embed="rId1"/>
          <a:stretch/>
        </p:blipFill>
        <p:spPr>
          <a:xfrm>
            <a:off x="539640" y="907920"/>
            <a:ext cx="8113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719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onda del suono si propaga nell’aria. Durante la propagazione avviene una compressione dell’aria e poi una decompressione(con una diminuzione della pression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un mezzo omogeneo le onde sonore si propagano con una velocità costante, perciò la velocità del suono si calcola c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v=d/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Nell’aria è di circa 340m/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l suono si  propaga anche nel suono e nei liquid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Quando un onda sonora incontra un mezzo materiale, si possono verificare tre fenomen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RIFLE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I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ASSORBIMENTO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fenomeno della riflessione avviene quando l’onda sonora incontra un ostacolo e giocano un ruolo fondamentale le dimensioni dell’ostacolo stesso. Questo fenomeno è significativo solo se la dimensione dell’ostacolo è  maggiore rispetto alla lunghezza d’onda dell’onda sonora che incide su di esso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l’onda sonora incide in direzione perpendicolare alla superficie riflettente torna indietro nella stessa direzi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nvece la direzione di propagazione dell’onda incidente non coincide con la perpendicolare alla superficie riflettente,l’onda riflessa si propaga in una direzione che forma con la stessa perpendicolare un angolo uguale a quello di incid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a velocità dell’onda incidente è uguale a quella dell’onda riflessa,perché l’onda viaggia nello stesso mezz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7:02:16Z</dcterms:created>
  <dc:creator>Francesca</dc:creator>
  <dc:description/>
  <dc:language>en-US</dc:language>
  <cp:lastModifiedBy>Laura Polenta</cp:lastModifiedBy>
  <dcterms:modified xsi:type="dcterms:W3CDTF">2011-05-13T14:16:26Z</dcterms:modified>
  <cp:revision>27</cp:revision>
  <dc:subject/>
  <dc:title>Diapositiva 1</dc:title>
</cp:coreProperties>
</file>